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E9071-D7B3-406C-87FE-5D264C0FED5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1D526-89BA-426B-9AA9-9895859AF3B1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043FC-1EDC-4FB1-9DA0-DCB44518DA94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2CF81-6EEC-4C24-8AF3-2935615C606A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984F6-49BE-450D-854B-61A65DED529E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76791-179B-4192-A3B4-CE614EAD8E8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1CF5A-5148-4DBC-AED5-D62F66FDDBE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CEB13-5D8C-450C-A472-82EB7079185A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A2092-6B54-46F8-8D8F-47E616E1C8BF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5360" y="1368360"/>
            <a:ext cx="43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how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42AC8-9B5E-49F2-B277-6BB8975937C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2CD7A-A8F6-4C6C-8B1A-96928B3C96B1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Exploring Dat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8400" y="2709720"/>
            <a:ext cx="547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1.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Displaying Quantitative Data with Graph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442800" y="811080"/>
            <a:ext cx="781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variables often take many values. A graph of the distribution may be clearer if nearby values are group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graph of the distribution of one quantitative variable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711360" y="3024360"/>
            <a:ext cx="7564320" cy="253332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hist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the range of data into classes of equal 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count (frequency) or percent (relative frequency) of individuals in each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el and scale your axes and draw the histogram. The height of the bar equals its frequency. Adjacent bars should touch, unless a class contains n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993240"/>
            <a:ext cx="8229600" cy="17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able presents data on the percent of residents from each state who were born outside of the U.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20640" y="2130480"/>
          <a:ext cx="2289240" cy="3343320"/>
        </p:xfrm>
        <a:graphic>
          <a:graphicData uri="http://schemas.openxmlformats.org/drawingml/2006/table">
            <a:tbl>
              <a:tblPr/>
              <a:tblGrid>
                <a:gridCol w="1270080"/>
                <a:gridCol w="10191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requency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 to &l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to &lt;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 to &lt;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to &lt;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 to &lt;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</a:tbl>
          </a:graphicData>
        </a:graphic>
      </p:graphicFrame>
      <p:grpSp>
        <p:nvGrpSpPr>
          <p:cNvPr id="618" name="Group 21"/>
          <p:cNvGrpSpPr/>
          <p:nvPr/>
        </p:nvGrpSpPr>
        <p:grpSpPr>
          <a:xfrm>
            <a:off x="3603600" y="2425680"/>
            <a:ext cx="4672080" cy="3165840"/>
            <a:chOff x="3603600" y="2425680"/>
            <a:chExt cx="4672080" cy="3165840"/>
          </a:xfrm>
        </p:grpSpPr>
        <p:sp>
          <p:nvSpPr>
            <p:cNvPr id="619" name="TextBox 17"/>
            <p:cNvSpPr/>
            <p:nvPr/>
          </p:nvSpPr>
          <p:spPr>
            <a:xfrm>
              <a:off x="4344480" y="5223240"/>
              <a:ext cx="38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foreign-born resi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18"/>
            <p:cNvSpPr/>
            <p:nvPr/>
          </p:nvSpPr>
          <p:spPr>
            <a:xfrm rot="16200000">
              <a:off x="2751480" y="35348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19" descr=""/>
            <p:cNvPicPr/>
            <p:nvPr/>
          </p:nvPicPr>
          <p:blipFill>
            <a:blip r:embed="rId1"/>
            <a:srcRect l="6352" t="9628" r="3347" b="4884"/>
            <a:stretch/>
          </p:blipFill>
          <p:spPr>
            <a:xfrm>
              <a:off x="3972960" y="2425680"/>
              <a:ext cx="4302720" cy="279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Rectangle 10"/>
          <p:cNvSpPr/>
          <p:nvPr/>
        </p:nvSpPr>
        <p:spPr>
          <a:xfrm>
            <a:off x="4265640" y="2425680"/>
            <a:ext cx="3949560" cy="25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Curved Up Arrow 11"/>
          <p:cNvGrpSpPr/>
          <p:nvPr/>
        </p:nvGrpSpPr>
        <p:grpSpPr>
          <a:xfrm>
            <a:off x="1341360" y="5089680"/>
            <a:ext cx="3414960" cy="1390320"/>
            <a:chOff x="1341360" y="5089680"/>
            <a:chExt cx="3414960" cy="1390320"/>
          </a:xfrm>
        </p:grpSpPr>
        <p:pic>
          <p:nvPicPr>
            <p:cNvPr id="624" name="Curved Up Arrow 11" descr=""/>
            <p:cNvPicPr/>
            <p:nvPr/>
          </p:nvPicPr>
          <p:blipFill>
            <a:blip r:embed="rId2"/>
            <a:stretch/>
          </p:blipFill>
          <p:spPr>
            <a:xfrm>
              <a:off x="1341360" y="5089680"/>
              <a:ext cx="339588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 rot="442200">
              <a:off x="1399680" y="5330880"/>
              <a:ext cx="331020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Curved Up Arrow 12"/>
          <p:cNvGrpSpPr/>
          <p:nvPr/>
        </p:nvGrpSpPr>
        <p:grpSpPr>
          <a:xfrm>
            <a:off x="2567160" y="1816200"/>
            <a:ext cx="3417120" cy="1146240"/>
            <a:chOff x="2567160" y="1816200"/>
            <a:chExt cx="3417120" cy="1146240"/>
          </a:xfrm>
        </p:grpSpPr>
        <p:pic>
          <p:nvPicPr>
            <p:cNvPr id="627" name="Curved Up Arrow 12" descr=""/>
            <p:cNvPicPr/>
            <p:nvPr/>
          </p:nvPicPr>
          <p:blipFill>
            <a:blip r:embed="rId3"/>
            <a:stretch/>
          </p:blipFill>
          <p:spPr>
            <a:xfrm>
              <a:off x="2567160" y="1816200"/>
              <a:ext cx="33858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 rot="11125800">
              <a:off x="2647440" y="1986840"/>
              <a:ext cx="33084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Using Histograms Wis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993240"/>
            <a:ext cx="8229600" cy="17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are several cautions based on common mistakes students make when using histogram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Rectangle 13"/>
          <p:cNvSpPr/>
          <p:nvPr/>
        </p:nvSpPr>
        <p:spPr>
          <a:xfrm>
            <a:off x="711360" y="2252520"/>
            <a:ext cx="7564320" cy="291456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</a:rPr>
              <a:t>Ca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onfuse histograms and bar grap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counts (in a frequency table) or percents (in a relative frequency table) a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ercents instead of counts on the vertical axis when comparing distributions with different numbers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because a graph looks nice, it’s not necessarily a meaningful displa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6840" y="1868040"/>
            <a:ext cx="83962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dotplots and stemplot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overall pattern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shape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histogram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OMPARE distribution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6400" y="2060280"/>
            <a:ext cx="8150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dotplots and stemplot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overall pattern of a distribution and  IDENTIFY any outliers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shape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histogram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OMPARE distribution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isplaying Quantitative Data with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t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947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of the simplest graphs to construct and interpret is a </a:t>
            </a: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dotplot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Each data value is shown as a dot above its location on a number lin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911160" y="1738440"/>
            <a:ext cx="7381800" cy="231912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dotpl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w a horizontal axis (a number line) and label it with the vari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the axis from the minimum to the maximum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 a dot above the location on the horizontal axis corresponding to each data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1825560" y="5240160"/>
            <a:ext cx="5622840" cy="10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49" name="Curved Up Arrow 25"/>
          <p:cNvGrpSpPr/>
          <p:nvPr/>
        </p:nvGrpSpPr>
        <p:grpSpPr>
          <a:xfrm>
            <a:off x="878040" y="4767120"/>
            <a:ext cx="987120" cy="1457640"/>
            <a:chOff x="878040" y="4767120"/>
            <a:chExt cx="987120" cy="1457640"/>
          </a:xfrm>
        </p:grpSpPr>
        <p:pic>
          <p:nvPicPr>
            <p:cNvPr id="550" name="Curved Up Arrow 25" descr=""/>
            <p:cNvPicPr/>
            <p:nvPr/>
          </p:nvPicPr>
          <p:blipFill>
            <a:blip r:embed="rId2"/>
            <a:stretch/>
          </p:blipFill>
          <p:spPr>
            <a:xfrm>
              <a:off x="878040" y="4767120"/>
              <a:ext cx="98712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rot="5190000">
              <a:off x="687600" y="5080680"/>
              <a:ext cx="135432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Table 24" descr=""/>
          <p:cNvPicPr/>
          <p:nvPr/>
        </p:nvPicPr>
        <p:blipFill>
          <a:blip r:embed="rId3"/>
          <a:stretch/>
        </p:blipFill>
        <p:spPr>
          <a:xfrm>
            <a:off x="1603440" y="4200480"/>
            <a:ext cx="5997600" cy="9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6840" y="966600"/>
            <a:ext cx="833436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a graph is to help us understand the data. After you make a graph, always ask, “What do I see?”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ining the Distribution of a Quantitativ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911160" y="2081160"/>
            <a:ext cx="7381800" cy="360036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Examine the Distribution of a Quantitativ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ny graph, look f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patte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for strik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that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overall pattern of a distribution by 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individual values that fall outside the overall pattern.  These departures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6664320" y="6121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ular Callout 9"/>
          <p:cNvSpPr/>
          <p:nvPr/>
        </p:nvSpPr>
        <p:spPr>
          <a:xfrm>
            <a:off x="4678200" y="3952800"/>
            <a:ext cx="4341960" cy="798480"/>
          </a:xfrm>
          <a:prstGeom prst="wedgeRectCallout">
            <a:avLst>
              <a:gd name="adj1" fmla="val -60592"/>
              <a:gd name="adj2" fmla="val 80356"/>
            </a:avLst>
          </a:prstGeom>
          <a:solidFill>
            <a:srgbClr val="d8d3d9"/>
          </a:solidFill>
          <a:ln w="9360">
            <a:solidFill>
              <a:srgbClr val="5d9ac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your SO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escribing Sh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966960"/>
            <a:ext cx="797724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escribe a distribution’s shape, concentrate on the main features.  Look for roug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cl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600120" y="1784520"/>
            <a:ext cx="8086680" cy="2532960"/>
          </a:xfrm>
          <a:prstGeom prst="rect">
            <a:avLst/>
          </a:prstGeom>
          <a:solidFill>
            <a:srgbClr val="d7e9c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stribution is roughly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ymmetric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right and left sides of the graph are approximately mirror images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stribution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kewed to the 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ight-skewed) if the right side of the graph (containing the half of the observations with larger values) is much longer than the lef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kewed to the lef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ft-skewed) if the left side of the graph is much longer than the righ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"/>
          <p:cNvPicPr/>
          <p:nvPr/>
        </p:nvPicPr>
        <p:blipFill>
          <a:blip r:embed="rId1"/>
          <a:srcRect l="6665" t="15683" r="0" b="0"/>
          <a:stretch/>
        </p:blipFill>
        <p:spPr>
          <a:xfrm>
            <a:off x="977760" y="4621320"/>
            <a:ext cx="2224080" cy="1644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"/>
          <p:cNvPicPr/>
          <p:nvPr/>
        </p:nvPicPr>
        <p:blipFill>
          <a:blip r:embed="rId2"/>
          <a:srcRect l="5338" t="15364" r="0" b="0"/>
          <a:stretch/>
        </p:blipFill>
        <p:spPr>
          <a:xfrm>
            <a:off x="3400560" y="4621320"/>
            <a:ext cx="2246040" cy="1644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"/>
          <p:cNvPicPr/>
          <p:nvPr/>
        </p:nvPicPr>
        <p:blipFill>
          <a:blip r:embed="rId3"/>
          <a:srcRect l="5338" t="15806" r="0" b="0"/>
          <a:stretch/>
        </p:blipFill>
        <p:spPr>
          <a:xfrm>
            <a:off x="5948280" y="4621320"/>
            <a:ext cx="2257560" cy="16444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0"/>
          <p:cNvSpPr/>
          <p:nvPr/>
        </p:nvSpPr>
        <p:spPr>
          <a:xfrm>
            <a:off x="979560" y="4489560"/>
            <a:ext cx="151920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3432240" y="4489560"/>
            <a:ext cx="155736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ewed-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5979960" y="4489560"/>
            <a:ext cx="162900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ewed-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mparing Dis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966960"/>
            <a:ext cx="833436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interesting statistics questions involve comparing two or more group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discuss shape, center, spread, and possible outliers whenever you compare distributions of a quantitative variabl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4654440" y="3538440"/>
            <a:ext cx="413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distributions of household size for these two countr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SO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Screen Shot 2013-07-19 at 11.48.45 AM.png"/>
          <p:cNvPicPr/>
          <p:nvPr/>
        </p:nvPicPr>
        <p:blipFill>
          <a:blip r:embed="rId1"/>
          <a:stretch/>
        </p:blipFill>
        <p:spPr>
          <a:xfrm>
            <a:off x="925560" y="2455920"/>
            <a:ext cx="372888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457200" y="981000"/>
            <a:ext cx="781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simple graphical display for small data set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p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Also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-and-leaf plo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plots give us a quick picture of the distribution while including the actual numerica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711360" y="2509920"/>
            <a:ext cx="7564320" cy="329580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stempl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each observation in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all but the final digit)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he final dig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all possible stems from the smallest to the largest in a vertical column and draw a vertical line to the right of the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each leaf in the row to the right of its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ange the leaves in increasing order out from the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a key that explains in context what the stems and leaves re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457200" y="981000"/>
            <a:ext cx="781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ata represent the responses of 20 female AP Statistics students to the question, “How many pairs of shoes do you have?” Construct a stem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389240" y="2311560"/>
          <a:ext cx="6095880" cy="7426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  <p:grpSp>
        <p:nvGrpSpPr>
          <p:cNvPr id="577" name="Group 12"/>
          <p:cNvGrpSpPr/>
          <p:nvPr/>
        </p:nvGrpSpPr>
        <p:grpSpPr>
          <a:xfrm>
            <a:off x="949320" y="3494160"/>
            <a:ext cx="770040" cy="2216880"/>
            <a:chOff x="949320" y="3494160"/>
            <a:chExt cx="770040" cy="2216880"/>
          </a:xfrm>
        </p:grpSpPr>
        <p:sp>
          <p:nvSpPr>
            <p:cNvPr id="578" name="TextBox 14"/>
            <p:cNvSpPr/>
            <p:nvPr/>
          </p:nvSpPr>
          <p:spPr>
            <a:xfrm>
              <a:off x="949320" y="5403960"/>
              <a:ext cx="77004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11"/>
            <p:cNvGrpSpPr/>
            <p:nvPr/>
          </p:nvGrpSpPr>
          <p:grpSpPr>
            <a:xfrm>
              <a:off x="1151280" y="3494160"/>
              <a:ext cx="311760" cy="1785600"/>
              <a:chOff x="1151280" y="3494160"/>
              <a:chExt cx="311760" cy="1785600"/>
            </a:xfrm>
          </p:grpSpPr>
          <p:sp>
            <p:nvSpPr>
              <p:cNvPr id="580" name="TextBox 7"/>
              <p:cNvSpPr/>
              <p:nvPr/>
            </p:nvSpPr>
            <p:spPr>
              <a:xfrm>
                <a:off x="1151280" y="3494160"/>
                <a:ext cx="3070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7"/>
              <p:cNvSpPr/>
              <p:nvPr/>
            </p:nvSpPr>
            <p:spPr>
              <a:xfrm flipH="1">
                <a:off x="1461600" y="3495600"/>
                <a:ext cx="1440" cy="178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13"/>
          <p:cNvGrpSpPr/>
          <p:nvPr/>
        </p:nvGrpSpPr>
        <p:grpSpPr>
          <a:xfrm>
            <a:off x="2394000" y="3495600"/>
            <a:ext cx="1539720" cy="2217240"/>
            <a:chOff x="2394000" y="3495600"/>
            <a:chExt cx="1539720" cy="2217240"/>
          </a:xfrm>
        </p:grpSpPr>
        <p:sp>
          <p:nvSpPr>
            <p:cNvPr id="583" name="TextBox 19"/>
            <p:cNvSpPr/>
            <p:nvPr/>
          </p:nvSpPr>
          <p:spPr>
            <a:xfrm>
              <a:off x="2394000" y="5405760"/>
              <a:ext cx="153972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dd le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15"/>
            <p:cNvGrpSpPr/>
            <p:nvPr/>
          </p:nvGrpSpPr>
          <p:grpSpPr>
            <a:xfrm>
              <a:off x="2593080" y="3495600"/>
              <a:ext cx="1340640" cy="1785960"/>
              <a:chOff x="2593080" y="3495600"/>
              <a:chExt cx="1340640" cy="1785960"/>
            </a:xfrm>
          </p:grpSpPr>
          <p:sp>
            <p:nvSpPr>
              <p:cNvPr id="585" name="TextBox 16"/>
              <p:cNvSpPr/>
              <p:nvPr/>
            </p:nvSpPr>
            <p:spPr>
              <a:xfrm>
                <a:off x="2593080" y="3495600"/>
                <a:ext cx="13406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933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6642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 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  07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22"/>
              <p:cNvSpPr/>
              <p:nvPr/>
            </p:nvSpPr>
            <p:spPr>
              <a:xfrm flipH="1">
                <a:off x="2906280" y="3497040"/>
                <a:ext cx="1440" cy="178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9"/>
          <p:cNvGrpSpPr/>
          <p:nvPr/>
        </p:nvGrpSpPr>
        <p:grpSpPr>
          <a:xfrm>
            <a:off x="4437000" y="3494160"/>
            <a:ext cx="1540080" cy="2216880"/>
            <a:chOff x="4437000" y="3494160"/>
            <a:chExt cx="1540080" cy="2216880"/>
          </a:xfrm>
        </p:grpSpPr>
        <p:sp>
          <p:nvSpPr>
            <p:cNvPr id="588" name="TextBox 24"/>
            <p:cNvSpPr/>
            <p:nvPr/>
          </p:nvSpPr>
          <p:spPr>
            <a:xfrm>
              <a:off x="4437000" y="5403960"/>
              <a:ext cx="154008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der le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21"/>
            <p:cNvGrpSpPr/>
            <p:nvPr/>
          </p:nvGrpSpPr>
          <p:grpSpPr>
            <a:xfrm>
              <a:off x="4636080" y="3494160"/>
              <a:ext cx="1341000" cy="1785600"/>
              <a:chOff x="4636080" y="3494160"/>
              <a:chExt cx="1341000" cy="1785600"/>
            </a:xfrm>
          </p:grpSpPr>
          <p:sp>
            <p:nvSpPr>
              <p:cNvPr id="590" name="TextBox 22"/>
              <p:cNvSpPr/>
              <p:nvPr/>
            </p:nvSpPr>
            <p:spPr>
              <a:xfrm>
                <a:off x="4636080" y="3494160"/>
                <a:ext cx="134100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333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23346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0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 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  00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traight Connector 27"/>
              <p:cNvSpPr/>
              <p:nvPr/>
            </p:nvSpPr>
            <p:spPr>
              <a:xfrm flipH="1">
                <a:off x="4949640" y="3495600"/>
                <a:ext cx="1440" cy="178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25"/>
          <p:cNvGrpSpPr/>
          <p:nvPr/>
        </p:nvGrpSpPr>
        <p:grpSpPr>
          <a:xfrm>
            <a:off x="6769080" y="3495600"/>
            <a:ext cx="1539720" cy="2217240"/>
            <a:chOff x="6769080" y="3495600"/>
            <a:chExt cx="1539720" cy="2217240"/>
          </a:xfrm>
        </p:grpSpPr>
        <p:sp>
          <p:nvSpPr>
            <p:cNvPr id="593" name="TextBox 29"/>
            <p:cNvSpPr/>
            <p:nvPr/>
          </p:nvSpPr>
          <p:spPr>
            <a:xfrm>
              <a:off x="6769080" y="5405760"/>
              <a:ext cx="153972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dd a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28"/>
            <p:cNvSpPr/>
            <p:nvPr/>
          </p:nvSpPr>
          <p:spPr>
            <a:xfrm>
              <a:off x="6769080" y="3495600"/>
              <a:ext cx="1539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y: 4|9 represents a female student who reported having 49 pairs of sho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7"/>
          <p:cNvSpPr/>
          <p:nvPr/>
        </p:nvSpPr>
        <p:spPr>
          <a:xfrm>
            <a:off x="457200" y="811080"/>
            <a:ext cx="781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ata values are “bunched up”, we can get a better picture of the distribution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ting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stributions of the same quantitative variable can be compared using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-to-back stemp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mon 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85640" y="2409840"/>
          <a:ext cx="4148280" cy="590400"/>
        </p:xfrm>
        <a:graphic>
          <a:graphicData uri="http://schemas.openxmlformats.org/drawingml/2006/table">
            <a:tbl>
              <a:tblPr/>
              <a:tblGrid>
                <a:gridCol w="414360"/>
                <a:gridCol w="416160"/>
                <a:gridCol w="414360"/>
                <a:gridCol w="414360"/>
                <a:gridCol w="415800"/>
                <a:gridCol w="414360"/>
                <a:gridCol w="414360"/>
                <a:gridCol w="414360"/>
                <a:gridCol w="415800"/>
                <a:gridCol w="41436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8" name="Group 11"/>
          <p:cNvGrpSpPr/>
          <p:nvPr/>
        </p:nvGrpSpPr>
        <p:grpSpPr>
          <a:xfrm>
            <a:off x="1917360" y="3200400"/>
            <a:ext cx="313200" cy="3048120"/>
            <a:chOff x="1917360" y="3200400"/>
            <a:chExt cx="313200" cy="3048120"/>
          </a:xfrm>
        </p:grpSpPr>
        <p:sp>
          <p:nvSpPr>
            <p:cNvPr id="599" name="TextBox 7"/>
            <p:cNvSpPr/>
            <p:nvPr/>
          </p:nvSpPr>
          <p:spPr>
            <a:xfrm>
              <a:off x="1917360" y="3200400"/>
              <a:ext cx="29340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traight Connector 9"/>
            <p:cNvSpPr/>
            <p:nvPr/>
          </p:nvSpPr>
          <p:spPr>
            <a:xfrm flipH="1">
              <a:off x="2229120" y="320184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Box 10"/>
          <p:cNvSpPr/>
          <p:nvPr/>
        </p:nvSpPr>
        <p:spPr>
          <a:xfrm>
            <a:off x="7147080" y="4660920"/>
            <a:ext cx="153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: 4|9 represents a student who reported having 49 pairs of sh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1644480" y="2100240"/>
            <a:ext cx="154008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e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4713120" y="2409840"/>
          <a:ext cx="3876840" cy="609480"/>
        </p:xfrm>
        <a:graphic>
          <a:graphicData uri="http://schemas.openxmlformats.org/drawingml/2006/table">
            <a:tbl>
              <a:tblPr/>
              <a:tblGrid>
                <a:gridCol w="387360"/>
                <a:gridCol w="387360"/>
                <a:gridCol w="389160"/>
                <a:gridCol w="387360"/>
                <a:gridCol w="387360"/>
                <a:gridCol w="387360"/>
                <a:gridCol w="387360"/>
                <a:gridCol w="387360"/>
                <a:gridCol w="388800"/>
                <a:gridCol w="38736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4" name="Group 35"/>
          <p:cNvGrpSpPr/>
          <p:nvPr/>
        </p:nvGrpSpPr>
        <p:grpSpPr>
          <a:xfrm>
            <a:off x="5857920" y="3014640"/>
            <a:ext cx="1508040" cy="3338640"/>
            <a:chOff x="5857920" y="3014640"/>
            <a:chExt cx="1508040" cy="3338640"/>
          </a:xfrm>
        </p:grpSpPr>
        <p:sp>
          <p:nvSpPr>
            <p:cNvPr id="605" name="TextBox 29"/>
            <p:cNvSpPr/>
            <p:nvPr/>
          </p:nvSpPr>
          <p:spPr>
            <a:xfrm>
              <a:off x="5857920" y="3014640"/>
              <a:ext cx="150804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   5556777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  0000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 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  5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16"/>
            <p:cNvSpPr/>
            <p:nvPr/>
          </p:nvSpPr>
          <p:spPr>
            <a:xfrm flipH="1">
              <a:off x="6172200" y="330660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6"/>
          <p:cNvGrpSpPr/>
          <p:nvPr/>
        </p:nvGrpSpPr>
        <p:grpSpPr>
          <a:xfrm>
            <a:off x="4332240" y="3014640"/>
            <a:ext cx="1509840" cy="3338640"/>
            <a:chOff x="4332240" y="3014640"/>
            <a:chExt cx="1509840" cy="3338640"/>
          </a:xfrm>
        </p:grpSpPr>
        <p:sp>
          <p:nvSpPr>
            <p:cNvPr id="608" name="Straight Connector 18"/>
            <p:cNvSpPr/>
            <p:nvPr/>
          </p:nvSpPr>
          <p:spPr>
            <a:xfrm flipH="1">
              <a:off x="5840640" y="330660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2"/>
            <p:cNvSpPr/>
            <p:nvPr/>
          </p:nvSpPr>
          <p:spPr>
            <a:xfrm>
              <a:off x="4332240" y="3014640"/>
              <a:ext cx="150840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3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20"/>
          <p:cNvSpPr/>
          <p:nvPr/>
        </p:nvSpPr>
        <p:spPr>
          <a:xfrm>
            <a:off x="5864400" y="2100240"/>
            <a:ext cx="153972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1"/>
          <p:cNvSpPr/>
          <p:nvPr/>
        </p:nvSpPr>
        <p:spPr>
          <a:xfrm>
            <a:off x="2382840" y="4475160"/>
            <a:ext cx="153972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stems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test</cp:lastModifiedBy>
  <dcterms:modified xsi:type="dcterms:W3CDTF">2014-04-22T03:16:43Z</dcterms:modified>
  <cp:revision>110</cp:revision>
  <dc:subject/>
  <dc:title>Slide 1</dc:title>
</cp:coreProperties>
</file>